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03A-11BC-4F2E-9297-F32E5B17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B5E-6334-43D8-B381-CB45F297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587-ACFC-41D3-BC2F-3E7DAE20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128-58E6-4E5B-B9F8-CF5F054B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0C65-9ED7-415F-88D4-28E51D04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EA4B-6D30-4FA1-AB73-90F78EFB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EEF8-B0E5-4655-A776-880538D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A020-6311-4346-B8C1-E1F19EA4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4F6A-7229-4C70-BA96-05E86188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AC56-69C4-4938-B52C-F1437DD4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42DB-2C40-40E1-89D8-103CF2A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305-F328-404F-996B-23B77B08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4CC9-E3AB-4C8D-9BC4-A400EF80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3D5E-B00B-4AC9-AD63-0B8BB8B6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7A39-BE9B-4C3D-ADA1-63599209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0CBF-5C65-4753-A73D-C73DEC6B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9D61-68A6-4370-B14D-025DD20E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7CA-DFE6-4371-AFC2-1299A0BD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252-7AEA-4B21-A825-38A76B6D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363-B302-4F59-9B87-71D3F830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F9F-3EEA-4358-B5B7-CB06F53D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6F6-B828-4510-9906-E86B7E69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A79-8C4D-405D-9F3A-7D76006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D7F-7D57-483C-A1DB-D4113DDE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F3B3-B4B8-42C6-8F4B-1955BBB81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365E-F171-481C-8197-C8EBBD088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646360" cy="498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19320" y="6400800"/>
            <a:ext cx="7022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y Liz LaRosa </a:t>
            </a:r>
            <a:r>
              <a:rPr b="1" i="1" lang="en-US" sz="1300" spc="-1" strike="noStrike" u="sng">
                <a:solidFill>
                  <a:srgbClr val="009999"/>
                </a:solidFill>
                <a:uFillTx/>
                <a:latin typeface="Arial"/>
              </a:rPr>
              <a:t>http://www.middleschoolscience.com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300" spc="-1" strike="noStrike" u="sng">
                <a:solidFill>
                  <a:srgbClr val="009999"/>
                </a:solidFill>
                <a:uFillTx/>
                <a:latin typeface="Arial"/>
              </a:rPr>
              <a:t>http://sciencespot.net/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 rot="20817600">
            <a:off x="301680" y="12906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nap ITC"/>
              </a:rPr>
              <a:t>Chemistr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1143000" y="5068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nap ITC"/>
              </a:rPr>
              <a:t>Challenge #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43000" y="40384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nap ITC"/>
              </a:rPr>
              <a:t>Acids &amp; Bas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C:\Documents and Settings\Liz\Local Settings\Temporary Internet Files\Content.IE5\EEEZ3B4P\MCj03663640000[1].wmf"/>
          <p:cNvPicPr/>
          <p:nvPr/>
        </p:nvPicPr>
        <p:blipFill>
          <a:blip r:embed="rId2"/>
          <a:stretch/>
        </p:blipFill>
        <p:spPr>
          <a:xfrm>
            <a:off x="6858000" y="2362320"/>
            <a:ext cx="21654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0"/>
          <p:cNvSpPr/>
          <p:nvPr/>
        </p:nvSpPr>
        <p:spPr>
          <a:xfrm>
            <a:off x="609480" y="3999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rcle the stronger Acid in each pair of pH value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838080" y="1981080"/>
            <a:ext cx="487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2  or pH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5 or pH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3 or pH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6 or pH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1 or pH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5" descr="C:\Documents and Settings\Liz\Local Settings\Temporary Internet Files\Content.IE5\P14UIVM6\MCj02153720000[1].wmf"/>
          <p:cNvPicPr/>
          <p:nvPr/>
        </p:nvPicPr>
        <p:blipFill>
          <a:blip r:embed="rId1"/>
          <a:stretch/>
        </p:blipFill>
        <p:spPr>
          <a:xfrm>
            <a:off x="5943600" y="4419720"/>
            <a:ext cx="2890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8"/>
          <p:cNvSpPr/>
          <p:nvPr/>
        </p:nvSpPr>
        <p:spPr>
          <a:xfrm>
            <a:off x="1523880" y="5334120"/>
            <a:ext cx="129564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3200400" y="4495680"/>
            <a:ext cx="129528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200400" y="3581280"/>
            <a:ext cx="129528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200400" y="2819520"/>
            <a:ext cx="129528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1523880" y="2057400"/>
            <a:ext cx="129564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609480" y="3999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rcle the stronger Acid in each pair of pH value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838080" y="1981080"/>
            <a:ext cx="487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2  or pH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5 or pH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3 or pH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6 or pH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1 or pH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5" descr="C:\Documents and Settings\Liz\Local Settings\Temporary Internet Files\Content.IE5\P14UIVM6\MCj02153720000[1].wmf"/>
          <p:cNvPicPr/>
          <p:nvPr/>
        </p:nvPicPr>
        <p:blipFill>
          <a:blip r:embed="rId1"/>
          <a:stretch/>
        </p:blipFill>
        <p:spPr>
          <a:xfrm>
            <a:off x="5943600" y="4419720"/>
            <a:ext cx="2890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4:12:40Z</dcterms:created>
  <dc:creator>Liz</dc:creator>
  <dc:description/>
  <dc:language>en-US</dc:language>
  <cp:lastModifiedBy>PritchaJ</cp:lastModifiedBy>
  <dcterms:modified xsi:type="dcterms:W3CDTF">2011-06-01T13:44:44Z</dcterms:modified>
  <cp:revision>57</cp:revision>
  <dc:subject/>
  <dc:title>Slide 1</dc:title>
</cp:coreProperties>
</file>